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8E3-1EF6-4C49-BB99-F1CAEA57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672-8CA1-4A7B-A1A6-8F750B87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9C0-F43D-4171-A6FA-1FCDD9C7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D0C-FFC2-422E-BD85-FC2F5C59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479-85CF-4C3A-A626-3394096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039-4374-4029-ABA6-48702B51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FC0-BAC8-4564-BB4D-897930F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B93-D383-43F5-BA96-29599463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BB5-F7FF-4629-8A65-B3CFA986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059-99FD-474F-B2ED-E03CCAB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D0D-6D4F-4D50-9F23-EBD62FC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D46-63EE-4F93-8D54-775CDFB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6F4-458D-40C3-9F68-200B7EF9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The Bottle</a:t>
            </a: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Temperan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U.S. History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38080" y="914400"/>
            <a:ext cx="7467840" cy="4952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2590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word document, write a persuasive paragraph either supporting or refuting the artist’s point of view on the effects of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vidence from the previous slides and your graphic organizer to support your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76320" y="380880"/>
            <a:ext cx="9220320" cy="1676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at was the perspective of the artist,</a:t>
            </a: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 George Cruikshan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ench Script MT"/>
              </a:rPr>
              <a:t>George Cruiksh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09480" y="2057400"/>
            <a:ext cx="8001000" cy="65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This is a presentation containing 7 of the 8 plates from </a:t>
            </a:r>
            <a:r>
              <a:rPr b="1" i="1" lang="en-US" sz="4400" spc="-1" strike="noStrike">
                <a:solidFill>
                  <a:srgbClr val="ffffff"/>
                </a:solidFill>
                <a:latin typeface="French Script MT"/>
              </a:rPr>
              <a:t>The Bottle</a:t>
            </a: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,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which was a collection of prints created (1847) by George Cruikshank, a caricaturist and book illustrato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ench Script MT"/>
              </a:rPr>
              <a:t>Cruiksank captured moralistic themes inspired by the temperance mov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604188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ttle Is Brought Out for the First Time: The Husband Induces His Wife "Just to Take a Dr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The Bottle: Plate I. The Bottle Is Brought Out for the First Time: The Husband Induces His Wife &quot;Just to Take a Drop&quot;."/>
          <p:cNvPicPr/>
          <p:nvPr/>
        </p:nvPicPr>
        <p:blipFill>
          <a:blip r:embed="rId1"/>
          <a:srcRect l="16587" t="13601" r="12353" b="20621"/>
          <a:stretch/>
        </p:blipFill>
        <p:spPr>
          <a:xfrm>
            <a:off x="380880" y="77760"/>
            <a:ext cx="8229600" cy="593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9800" y="604188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Is Discharged &gt;From His Employment For Drunkenness: They Pawn Their Clothes to Supply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The Bottle: Plate II. He Is Discharged &gt;From His Employment For Drunkness: They Pawn Their Clothes to Supply the Bottle."/>
          <p:cNvPicPr/>
          <p:nvPr/>
        </p:nvPicPr>
        <p:blipFill>
          <a:blip r:embed="rId1"/>
          <a:srcRect l="14103" t="11268" r="14418" b="23086"/>
          <a:stretch/>
        </p:blipFill>
        <p:spPr>
          <a:xfrm>
            <a:off x="533520" y="152280"/>
            <a:ext cx="8001000" cy="579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9800" y="6119640"/>
            <a:ext cx="81090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ecution Sweeps Off the Greater Part of Their Furniture: They Comfort Themselves With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The Bottle: Plate III. An Execution Sweeps Off the Greater Part of Their Furniture: They Comfort Themselves With the Bottle."/>
          <p:cNvPicPr/>
          <p:nvPr/>
        </p:nvPicPr>
        <p:blipFill>
          <a:blip r:embed="rId1"/>
          <a:srcRect l="16419" t="13362" r="12528" b="18871"/>
          <a:stretch/>
        </p:blipFill>
        <p:spPr>
          <a:xfrm>
            <a:off x="507960" y="119160"/>
            <a:ext cx="8035920" cy="601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46120" y="6119640"/>
            <a:ext cx="795024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ble to Obtain Employment, They are Driven by Poverty into the Streets to Beg, and by This Means They Still Supply the Bo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ttp://content.cdlib.org/ark:/13030/ft1q2nb133/hi-res"/>
          <p:cNvPicPr/>
          <p:nvPr/>
        </p:nvPicPr>
        <p:blipFill>
          <a:blip r:embed="rId1"/>
          <a:srcRect l="5660" t="0" r="5660" b="7580"/>
          <a:stretch/>
        </p:blipFill>
        <p:spPr>
          <a:xfrm>
            <a:off x="554040" y="144360"/>
            <a:ext cx="7924680" cy="591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WordArt 4"/>
          <p:cNvSpPr txBox="1"/>
          <p:nvPr/>
        </p:nvSpPr>
        <p:spPr>
          <a:xfrm>
            <a:off x="641520" y="206280"/>
            <a:ext cx="1415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I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14360" y="610884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, Misery and Want, Destroy Their Youngest Child: They Console Themselves With the Bott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The Bottle: Plate V. Cold, Misery and Want, Destroy Their Youngest Child: They Console Themselves With the Bottle."/>
          <p:cNvPicPr/>
          <p:nvPr/>
        </p:nvPicPr>
        <p:blipFill>
          <a:blip r:embed="rId1"/>
          <a:srcRect l="13550" t="13607" r="15957" b="23816"/>
          <a:stretch/>
        </p:blipFill>
        <p:spPr>
          <a:xfrm>
            <a:off x="412920" y="152280"/>
            <a:ext cx="8229600" cy="588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he Bottle: Plate VI. Fearful Quarrels and Brutal Violence Are the Natural Consequences of the Frequent Use of the Bottle."/>
          <p:cNvPicPr/>
          <p:nvPr/>
        </p:nvPicPr>
        <p:blipFill>
          <a:blip r:embed="rId1"/>
          <a:srcRect l="15300" t="15626" r="12479" b="20291"/>
          <a:stretch/>
        </p:blipFill>
        <p:spPr>
          <a:xfrm>
            <a:off x="457200" y="152280"/>
            <a:ext cx="8077320" cy="572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Text Box 3"/>
          <p:cNvSpPr/>
          <p:nvPr/>
        </p:nvSpPr>
        <p:spPr>
          <a:xfrm>
            <a:off x="369720" y="5942160"/>
            <a:ext cx="822960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rful Quarrels and Brutal Violence Are the Natural Consequences of the Frequent Use of the Bot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57200" y="6019920"/>
            <a:ext cx="8099280" cy="642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sband, in a State of Furious Drunkenness Kills His Wife With The Instrument of All Their Mis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The Bottle: Plate VII. The Husband, in a State of Furious Drunkeness Kills His Wife With The Instrument of All Their Misery."/>
          <p:cNvPicPr/>
          <p:nvPr/>
        </p:nvPicPr>
        <p:blipFill>
          <a:blip r:embed="rId1"/>
          <a:srcRect l="13116" t="6594" r="11184" b="13400"/>
          <a:stretch/>
        </p:blipFill>
        <p:spPr>
          <a:xfrm>
            <a:off x="457200" y="139680"/>
            <a:ext cx="8077320" cy="588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WordArt 4"/>
          <p:cNvSpPr txBox="1"/>
          <p:nvPr/>
        </p:nvSpPr>
        <p:spPr>
          <a:xfrm>
            <a:off x="488880" y="206280"/>
            <a:ext cx="141624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Plate VII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9:38:04Z</dcterms:created>
  <dc:creator>Magner</dc:creator>
  <dc:description/>
  <dc:language>en-US</dc:language>
  <cp:lastModifiedBy>Ann</cp:lastModifiedBy>
  <dcterms:modified xsi:type="dcterms:W3CDTF">2012-07-25T02:00:53Z</dcterms:modified>
  <cp:revision>17</cp:revision>
  <dc:subject/>
  <dc:title>The Bottle</dc:title>
</cp:coreProperties>
</file>